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B10-9CCA-4BF4-8896-AB299BCA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DA3-2304-44EA-BEC2-1E21967F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ECB-3F6C-45E2-BD6C-671033B1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398-DE91-481E-ADB3-E85D4F8D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947-0157-44EC-97FB-45498E1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75-EF07-464A-B8F6-5D6FF024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26A-357D-4687-B0F8-2C7D1F2B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554-8708-4AA7-9896-2B1B0A8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326-F1D5-4691-A028-857FA59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D6A-2B68-45F2-8E3C-C0D525B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E0B-A3B3-4BEE-9C82-986BF1A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D40-8342-48C1-A7A8-3D8FE53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2BAE-FF66-4858-8FCF-7B3CF6FDE7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ω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ιδ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δο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θε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δ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800440" y="427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2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-142920" y="127944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οντ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ἱστη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α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Participle Masculine Plural Accus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803680" y="36608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00440" y="42973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803680" y="55389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800440" y="490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mper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οασιν τον μισθον αὐτων τοι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ρατιωτ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ἀνεστησεν τον νεκ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ημεν μετα του κυριου ἐπ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ὀ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φεντες οὐκ ὑπεστρεψ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η ὁτι ἑστηκεν ἐκ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ἑως ἀν θω τους ἐχθρους σ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 των ποδω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giving the soldiers their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raised the dead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313160" y="3300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tood with the lord o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27560" y="4200480"/>
            <a:ext cx="50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had left they did not turn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330800" y="51004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he was standing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329000" y="553572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until I place your enemies 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f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87200" y="1143000"/>
            <a:ext cx="421488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ος μοι τον ἀρτον της ζω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ας ὁ ἀποστολος ἐκηρυσσεν τῳ 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nded over the teaching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sick man stand up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she had dismissed the crow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began to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he was giving them the wine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ugh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6160" y="183348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 me the bread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6160" y="228924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 had stood up, the apos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an to preach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330800" y="314316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ρεδωκαν την διδαχην τ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εσβυτερ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4330800" y="40561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ησεν τον ἀσθενη ἐν τ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330800" y="4929120"/>
            <a:ext cx="48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εισα τον ὀχλον προσηυχε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ξατο προσευχεσθα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4330800" y="5815080"/>
            <a:ext cx="45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ους τον οἰνον αὐτοις ἐδιδαξ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αὐτου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142920" y="1279440"/>
            <a:ext cx="50007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λανα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πληρω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ικαι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ισησ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γα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Passive Participle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03680" y="36464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800440" y="42829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803680" y="55245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800440" y="488808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νικ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μ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ρωτ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μᾳ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αυρο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ιν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800440" y="18208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00440" y="4272120"/>
            <a:ext cx="60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2:36Z</dcterms:created>
  <dc:creator>Sarah</dc:creator>
  <dc:description/>
  <dc:language>en-US</dc:language>
  <cp:lastModifiedBy>Sarah</cp:lastModifiedBy>
  <dcterms:modified xsi:type="dcterms:W3CDTF">2009-08-15T18:38:46Z</dcterms:modified>
  <cp:revision>25</cp:revision>
  <dc:subject/>
  <dc:title>Slide 1</dc:title>
</cp:coreProperties>
</file>